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8B05-4F5B-4F87-9BFE-202445E69F6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пендикуляр и накло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геометрии в 10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701B-20CE-4FAA-ABE2-8F4FE96C87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Свойства ортогональной проек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жем третье утверждение: одна наклонная длиннее другой тогда и только тогда, когда ортогональная проекция первой наклонной длиннее ортогональной проекции второй наклонной. Пусть, например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 &g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ожим на отрезк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ку Е такую, что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=BE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гда и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D=AE.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реугольник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Е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гол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C тупой и поэтому больше угл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E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, сторон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е стороны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Е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й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о, пусть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 &g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D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ы три случая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C=BD;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 &l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;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)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 &g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C=BD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по доказанному выше в пункте 2,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C=AD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тиворечит условию. Есл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 &l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ы только что доказали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 &l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D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пять противоречит условию. Остается третья возможность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 &g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ема доказ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71D7-F179-4B89-A4E2-24C4D336C1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Расстояние от точки до плоск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сстоянием от точки до плоск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е проходящей через эту точку) называется длина перпендикуляра, опущенного из точки на эту плоскость. Из теоремы о свойствах ортогональной проекции следует, что расстояние от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 наименьшему расстоянию от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точек этой плоск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8FAB-9969-4A18-8347-C8F20E76FC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Свойство расстоя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от разных точек до плоск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чание 1 (свойство расстоянии от разных точек до плоскости). Пусть две точки А и В не принадлежат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прямая АВ пересекает плоскост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точке С. Тогда расстояния от точек А и В до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ятся как отрезки АС и ВС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DEB4-AE4F-4D1D-B40D-51064BD03F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казатель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два случая. В случае 1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 находятся по одну сторону от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ортогональные проекции точек А и В на плоскость —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енно. Тогда прямая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ортогональной проекцией прямо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 проходит через точку С. В плоскости , проходящей через прямы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угольные треугольник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бны, и поэтому их катеты пропорциональны гипотенуз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учай 2, когда точки А и В расположены по разную сторону от плоскости, разберите самостоятельно. Замечание 1 доказа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CF7F-7B92-43CD-BBE3-EC1D9A656D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Свойство расстояния от середины отрез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до плоск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мечание 2 (свойство расстояния от середины отрезка до плоскос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усть расстояния от точек А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 плоскост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вны а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оответственно. Тогда расстояние от середины С отрезка АВ до этой плоскости рав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точк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сположены по одну сторону от плоскост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точк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сположены по одну сторону от   если точки А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сположены по разные стороны 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оскост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чк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сположены по одну сторону от   если точки А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сположены по одну сторону от плоскост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1C78-A8B5-4F16-9795-78F1A4C2F7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Теорема о трех перпендикуля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Calibri"/>
              </a:rPr>
              <a:t>Прямая, лежащая в плоскости, перпендикулярна наклонной тогда и только тогда, когда она перпендикулярна ее ортогональной проекц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оказательств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усть даны плоскость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перпендикуляр АВ на эту плоскость, наклонная АС, и пряма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плоскост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Нам надо доказать два взаимно обратных утверждения. Первое утверждение: если пряма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пендикулярна наклонной АС, то она перпендикулярна и ее ортогональной проекции ВС. И обратно: если пряма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пендикулярна ортогональной проекции В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о она перпендикулярна и наклонной 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пендикуляр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В 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лоскость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клон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С 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яма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плоскост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1A87-66D3-4435-8431-108D0107B9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Угол между наклонной и плоск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даны плоскость и наклонная прямая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глом между прямой и плоскостью называется угол между прямой и ее ортогональной проекцией на эту плоскость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ямая параллельна плоскости, то угол между ней и плоскостью считается равным нулю. Если прямая перпендикулярна плоскости, то угол между ней и плоскостью прямой, т. е. равен 90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гол между наклонной и ее ортогональной проекцией на плоскость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6D39-6F64-4F4A-A766-E8586DA2A3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Перпендикуляр, наклонная и 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ортогональная проекция образу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прямоугольный треугольн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FD8E-3A7D-4943-A723-261730DF63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втор: Аверкина Т.П., учитель МОУ «Тархановская СОШ» Ичалковского района 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357E-3DBA-4ADF-B9FE-E2F6CD241A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одном из предыдущих уроков вы познакомились с понятием проекции точки на данную плоскость параллельно данной пря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этом уроке вы продолжите изучение прямых и плоскостей; узнаете, как находится угол между прямой и плоскостью. Вы познакомитесь с понятием ортогональной проекции на плоскость и рассмотрите ее свойства. На уроке будут даны определения расстояния от точки до плоскости и от точки до прямой, угла между прямой и плоскостью. Будет доказана знаменитая теорема о трех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пендикуляр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7C1C-9222-433D-A8D1-65436ABD6C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Ортогональная про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ртогональной проекци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анную плоскость называется проекция точки на эту плоскость параллельно прямой, перпендикулярной этой плоскости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ртогональная проекция фигур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анную плоскость 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из ортогональных проекций на плоскость 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х точек этой фиг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тогональная проекция часто используется для изображения пространственных тел на плоскости, особенно в технических чертежах. Она дает более реалистическое изображение, чем произвольная параллельная проекция, особенно круглых т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B8C2-9DF8-4B8D-8C86-8E3729B222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пендикуляр и накло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через точку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ринадлежащую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оведена прямая, перпендикулярная этой плоскости и пересекающая ее в точке В. Тогда отрезок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ыва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пендикуляром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щенным из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у плоскость, а сама точка В — основанием этого перпендикуляра. Любой отрезок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С — произвольная точка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тличная от В, называ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клонно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этой плос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тим, что точка В в этом определении является ортогональной проекцией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отрезок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ортогональной проекцией наклонно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Ортогональные проекции обладают всеми свойствами обычных параллельных проекций, но имеют и ряд новых сво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FD6E-520D-47A0-BD44-CBACFBB951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Свойства ортогональной проек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из одной точки к плоскости проведены перпендикуляр и несколько наклонных. Тогда справедливы следующие утвер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  Любая наклонная длиннее как перпендикуляра, так и ортогональной проекции наклонной на эту плоск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   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   Одна наклонная длиннее другой тогда и только тогда, когда ортогональная проекция первой наклонной длиннее ортогональной проекции второй наклон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80FA-2DCF-4C11-A92A-602A508953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Свойства ортогональной проек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казатель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из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ведены перпендикуляр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две наклонны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тогда отрезки ВС и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ортогональные проекции этих отрезков на плоскост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жем первое утверждение: любая наклонная длиннее как перпендикуляра, так и ортогональной проекции наклонной на эту плоскость. Рассмотрим, например, наклонну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и треугольник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BC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ный перпендикуляро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, этой наклонно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, и ее ортогональной проекцией ВС. Этот треугольник прямоугольный с прямым углом в вершине В и гипотенузо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, которая, как мы знаем из планиметрии, длиннее каждого из катетов, т.е. и перпендикуляр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, и проекции В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98D9-F5D7-494D-BE75-12FE291643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Свойства ортогональной проек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докажем второе утверждение, а именно: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прямоугольные треугольник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 и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BD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имеют общий кате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Если наклонны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и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D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ы, то прямоугольные треугольник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ы по катету и гипотенузе, и тогд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C=BD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о, если равны проекции ВС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D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эти же треугольники равны по двум катетам, и тогда у них равны и гипотенуз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и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AB75-0512-4B85-944E-E6F62DE558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445D-2D24-457C-B708-5EF88E93C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EC78-2BBC-455D-9710-A752B0DA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E28F-176C-413C-914D-160491AB5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6154-AA0C-42C0-BC05-FA77DDE91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5E34-D9CD-4E70-A1DB-044320EAF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68A3-FFEC-4F59-A734-37BFA99B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0790-91EC-4A95-8195-9D5A3D4E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A78B-B5CA-4E3D-B2AC-69C4B650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4A56-AF56-460F-B6A9-87282249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4CF0-A004-45EB-9A2B-71BEE23B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0BF1-CD6D-4B20-B362-EAA4BB4E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3EE7-7A1B-48D8-8D47-1C818F0F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76D8-B18E-4764-B4C5-98ED9261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11F5-6FBE-4CBB-847E-9A2E838C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9AEB-BC4B-47FE-A212-F4E8BC90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86C0-8C96-4DCB-ACFF-A1F8614F5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71E9-5C03-4B43-BD91-B3FADEC34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21A8-7ED1-4A76-BA2C-00C6D0FB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817E-478C-4D88-AA7F-3534D976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6E54-E1EF-4D6E-9213-5C187A79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EB1A-C33C-4801-B3E3-C88D5D79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4DF6-BF8C-48CF-91E9-7BE1981B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2A21-5CDA-44D1-B862-8A1FBBAC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3E00-1429-41B6-B85B-360C56A5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A6C4-F82B-4583-B291-1EF2B28955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2FBE-505B-4EF9-B10C-EBBA066096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Перпендикуляр и наклонная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геометрии в 10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1486800" y="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50920" y="620640"/>
            <a:ext cx="4572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жем третье утверждение: одна наклонная длиннее другой тогда и только тогда, когда ортогональная проекция первой наклонной длиннее ортогональной проекции второй наклонной. Пусть, например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ложим на отрезк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у Е такую, что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=BE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да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=AE.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реугольник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гол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C тупой и поэтому больше угл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овательно, сторон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е стороны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Е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о, пуст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ы три случая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C=BD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)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C=B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по доказанному выше в пункте 2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=A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противоречит условию. Есл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мы только что доказали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опять противоречит условию. Остается третья возможность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ема доказ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5364000" y="501336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С больш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 стороны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Е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о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4894200" y="1413000"/>
            <a:ext cx="4249800" cy="336204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5724360" y="1413000"/>
            <a:ext cx="3019680" cy="38671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1410480" y="260280"/>
            <a:ext cx="63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Расстояние от точки до плоск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684360" y="907920"/>
            <a:ext cx="4824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сстоянием от точки до плоскос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е проходящей через эту точку) называется длина перпендикуляра, опущенного из точки на эту плоскость. Из теоремы о свойствах ортогональной проекции следует, что расстояние от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о наименьшему расстоянию от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точек этой плоск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1120680" y="189000"/>
            <a:ext cx="562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о расстоя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от разных точек до плоск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1476360" y="1557360"/>
            <a:ext cx="633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чание 1 (свойство расстоянии от разных точек до плоскости). Пусть две точки А и В не принадлежат плоскост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прямая АВ пересекает плоскос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точке С. Тогда расстояния от точек А и В до плоскост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сятся как отрезки АС и ВС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"/>
          <p:cNvPicPr/>
          <p:nvPr/>
        </p:nvPicPr>
        <p:blipFill>
          <a:blip r:embed="rId1"/>
          <a:stretch/>
        </p:blipFill>
        <p:spPr>
          <a:xfrm>
            <a:off x="3203640" y="5229360"/>
            <a:ext cx="2520720" cy="107604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250920" y="193680"/>
            <a:ext cx="5111640" cy="61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два случая. В случае 1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 находятся по одну сторону от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ортогональные проекции точек А и В на плоскость —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енно. Тогда пряма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ортогональной проекцией прямо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 проходит через точку С. В плоскости , проходящей через прям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обны, и поэтому их катеты пропорциональны гипотенуз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1116000" y="6093000"/>
            <a:ext cx="2638440" cy="7315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6"/>
          <p:cNvSpPr/>
          <p:nvPr/>
        </p:nvSpPr>
        <p:spPr>
          <a:xfrm>
            <a:off x="5724360" y="3933720"/>
            <a:ext cx="26654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оугольные треугольник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В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об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2"/>
          <a:stretch/>
        </p:blipFill>
        <p:spPr>
          <a:xfrm>
            <a:off x="5400720" y="620640"/>
            <a:ext cx="3743280" cy="33339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8"/>
          <p:cNvSpPr/>
          <p:nvPr/>
        </p:nvSpPr>
        <p:spPr>
          <a:xfrm>
            <a:off x="5292720" y="5157720"/>
            <a:ext cx="353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учай 2, когда точки А и В расположены по разную сторону от плоскости, разберите самостоятельно. Замечание 1 доказа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4572000" y="141300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ечание 2 (свойство расстояния от середины отрезка до плоскос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сть расстояния от точек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вны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оответственно. Тогда расстояние от середины С отрезка АВ до этой плоскости рав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694800" y="189000"/>
            <a:ext cx="795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о расстояния от середины отрез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до плос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468360" y="5157720"/>
            <a:ext cx="32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  если точки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4086360" cy="3400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"/>
          <p:cNvPicPr/>
          <p:nvPr/>
        </p:nvPicPr>
        <p:blipFill>
          <a:blip r:embed="rId2"/>
          <a:stretch/>
        </p:blipFill>
        <p:spPr>
          <a:xfrm>
            <a:off x="4716360" y="3429000"/>
            <a:ext cx="666720" cy="743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3"/>
          <a:stretch/>
        </p:blipFill>
        <p:spPr>
          <a:xfrm>
            <a:off x="4643280" y="4797360"/>
            <a:ext cx="762120" cy="6955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10"/>
          <p:cNvSpPr/>
          <p:nvPr/>
        </p:nvSpPr>
        <p:spPr>
          <a:xfrm>
            <a:off x="5580000" y="3429000"/>
            <a:ext cx="35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т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5651640" y="4724280"/>
            <a:ext cx="327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т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  если точки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разные стороны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3851280" y="907920"/>
            <a:ext cx="5076720" cy="50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Прямая, лежащая в плоскости, перпендикулярна наклонной тогда и только тогда, когда она перпендикулярна ее ортогональной прое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сть даны плоскос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перпендикуляр АВ на эту плоскость, наклонная АС, 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Нам надо доказать два взаимно обратных утверждения. Первое утверждение: есл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на наклонной АС, то она перпендикулярна и ее ортогональной проекции ВС. И обратно: есл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на ортогональной проекции В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она перпендикулярна и наклонной 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250920" y="4797360"/>
            <a:ext cx="313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 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лоскос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клон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С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а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1699200" y="0"/>
            <a:ext cx="610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Теорема о трех перпендикуля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"/>
          <p:cNvPicPr/>
          <p:nvPr/>
        </p:nvPicPr>
        <p:blipFill>
          <a:blip r:embed="rId1"/>
          <a:stretch/>
        </p:blipFill>
        <p:spPr>
          <a:xfrm>
            <a:off x="0" y="1341360"/>
            <a:ext cx="3781440" cy="318132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5131080" cy="5329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2"/>
          <a:stretch/>
        </p:blipFill>
        <p:spPr>
          <a:xfrm>
            <a:off x="5343480" y="981000"/>
            <a:ext cx="3800520" cy="28861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7"/>
          <p:cNvSpPr/>
          <p:nvPr/>
        </p:nvSpPr>
        <p:spPr>
          <a:xfrm>
            <a:off x="6084720" y="4005360"/>
            <a:ext cx="285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рямая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перпендикулярна плоскости АВС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250920" y="765000"/>
            <a:ext cx="88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даны плоскость и наклонная прямая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глом между прямой и плоскостью называется угол между прямой и ее ортогональной проекцией на эту плоскость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прямая параллельна плоскости, то угол между ней и плоскостью считается равным нулю. Если прямая перпендикулярна плоскости, то угол между ней и плоскостью прямой, т. е. равен 9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263960" y="189000"/>
            <a:ext cx="67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Угол между наклонной и плоск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471600" y="6165720"/>
            <a:ext cx="80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гол между наклонной и ее ортогональной проекцией на плоскост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1476360" y="3357720"/>
            <a:ext cx="5400720" cy="27716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5662800" cy="4032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"/>
          <p:cNvPicPr/>
          <p:nvPr/>
        </p:nvPicPr>
        <p:blipFill>
          <a:blip r:embed="rId2"/>
          <a:stretch/>
        </p:blipFill>
        <p:spPr>
          <a:xfrm>
            <a:off x="5796000" y="1052640"/>
            <a:ext cx="3348000" cy="20365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7"/>
          <p:cNvSpPr/>
          <p:nvPr/>
        </p:nvSpPr>
        <p:spPr>
          <a:xfrm>
            <a:off x="6084720" y="3068640"/>
            <a:ext cx="334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ерпендикуляр, наклонная и 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ортогональная проекция образу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рямоугольный треугольн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4360" y="1412640"/>
            <a:ext cx="80071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: Аверкина Т.П., учитель МОУ «Тархановская СОШ» Ичалковского района 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8"/>
          <p:cNvSpPr/>
          <p:nvPr/>
        </p:nvSpPr>
        <p:spPr>
          <a:xfrm>
            <a:off x="826920" y="189000"/>
            <a:ext cx="80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одном из предыдущих уроков вы познакомились с понятием проекции точки на данную плоскость параллельно данной пря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этом уроке вы продолжите изучение прямых и плоскостей; узнаете, как находится угол между прямой и плоскостью. Вы познакомитесь с понятием ортогональной проекции на плоскость и рассмотрите ее свойства. На уроке будут даны определения расстояния от точки до плоскости и от точки до прямой, угла между прямой и плоскостью. Будет доказана знаменитая теорема о тре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пендикуляр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25320" y="266760"/>
            <a:ext cx="7894800" cy="63244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34880" y="209520"/>
            <a:ext cx="8275680" cy="64404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2987640" y="476280"/>
            <a:ext cx="5940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тогональной проекцие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данную плоскость называется проекция точки на эту плоскость параллельно прямой, перпендикулярной этой плоскости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тогональная проекция фигур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данную плоскость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ит из ортогональных проекций на плоскость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х точек этой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тогональная проекция часто используется для изображения пространственных тел на плоскости, особенно в технических чертежах. Она дает более реалистическое изображение, чем произвольная параллельная проекция, особенно круглых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2201760" y="65160"/>
            <a:ext cx="467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Ортогональная прое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2495520" cy="1981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2486160" cy="19526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8"/>
          <p:cNvSpPr/>
          <p:nvPr/>
        </p:nvSpPr>
        <p:spPr>
          <a:xfrm>
            <a:off x="253440" y="263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тогональная прое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и и фиг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253440" y="57340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тогональная прое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250920" y="83664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через точк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принадлежащую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оведена прямая, перпендикулярная этой плоскости и пересекающая ее в точке В. Тогда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рпендикуляром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ущенным из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эту плоскость, а сама точка В — основанием этого перпендикуляра. Любой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С — произвольная точка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тличная от В, называе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клонн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этой плос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тим, что точка В в этом определении является ортогональной проекцией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ортогональной проекцией наклонн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Ортогональные проекции обладают всеми свойствами обычных параллельных проекций, но имеют и ряд новых свой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835280" y="260280"/>
            <a:ext cx="34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 и накл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5365800" y="479736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пендикуляр и наклонн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4896000" y="1413000"/>
            <a:ext cx="4248000" cy="3105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1486800" y="18900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539640" y="787320"/>
            <a:ext cx="8280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ь из одной точки к плоскости проведены перпендикуляр и несколько наклонных. Тогда справедливы следующие утвер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       Любая наклонная длиннее как перпендикуляра, так и ортогональной проекции наклонной на эту плоск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        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        Одна наклонная длиннее другой тогда и только тогда, когда ортогональная проекция первой наклонной длиннее ортогональной проекции второй наклон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1486800" y="18900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324000" y="76500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из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ведены перпендикуляр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ве наклонны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тогда отрезки ВС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ортогональные проекции этих отрезков на плоско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жем первое утверждение: любая наклонная длиннее как перпендикуляра, так и ортогональной проекции наклонной на эту плоскость. Рассмотрим, например, наклонную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и треугольник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C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ный перпендикуляро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, этой наклонн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, и ее ортогональной проекцией ВС. Этот треугольник прямоугольный с прямым углом в вершине В и гипотенуз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, которая, как мы знаем из планиметрии, длиннее каждого из катетов, т.е. и перпендикуля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, и проекции В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5497560" y="4221000"/>
            <a:ext cx="364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точки А к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пендикуляр АВ и две наклон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391200" cy="25714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1486800" y="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3780000" y="558720"/>
            <a:ext cx="5076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ерь докажем второе утверждение, а именно: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D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и имеют общий кате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Если наклонн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ы, то 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ы по катету и гипотенузе, и тогд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=BD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тно, если равны проекции ВС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эти же треугольники равны по двум катетам, и тогда у них равны и гипотенуз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684360" y="458136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угольник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ы по катету и гипотенуз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0" y="1484280"/>
            <a:ext cx="3780000" cy="28940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6:11:06Z</dcterms:created>
  <dc:creator>Надя</dc:creator>
  <dc:description/>
  <dc:language>en-US</dc:language>
  <cp:lastModifiedBy>LEGION</cp:lastModifiedBy>
  <dcterms:modified xsi:type="dcterms:W3CDTF">2015-01-23T11:45:02Z</dcterms:modified>
  <cp:revision>60</cp:revision>
  <dc:subject/>
  <dc:title>Перпендикуляр и наклонная</dc:title>
</cp:coreProperties>
</file>